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879-D559-4AF8-8BDD-25C5F70C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14F-F38A-4189-A0E7-AC5647A2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ACD-CF36-48D9-B4E4-34702F74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9F8-2DC1-43D7-A05F-969306B6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0FC-EAC5-4F1A-9A9D-75321BE4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AD1-5024-407B-9F21-5A1E9BC6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664-0B46-41E8-8DE3-CD161F6D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144-FFFC-4C3D-82E9-15AE9226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5DA-C601-4789-9B6C-93C406BD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FF5-0F9A-4EFA-BCB2-938A08D5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8DA-A6CD-4B4F-8813-0198F183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39F-29D4-46B3-A9AD-5730D0F2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7BF3-B1FD-4099-845F-BC8E94CED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Questions and Answer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Quarter 5, Lesson 5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at was the nature of the contention between Judah and the other tribes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o led in a rebellion against the rule of David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David first called upon _______________ to gather the men of Judah to him within three days.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Knowing that something needed to be done quickly, David next called ___________ to go after Sheba.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he troops came upon Amasa at _________________.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9907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The other tribes accused Judah of stealing the 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21337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Sheba, tribe of Benja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27432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A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4038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Abish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47242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The great stone of Gibe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Also present on that occasion was _________ who had a plan to kill Amasa.   Why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How was his plot carried out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at role did the wise woman at Abel play in the death of Sheba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en the kingdom was completely restored, who was made the chief captain over the army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e have now learned of ______ rebellions against David, one led by _________ and the other by _________.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Jo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10666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No reason given, but it must have been for personal reve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20574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He approached Amasa with a dagger in his hand, pretended to greet him, but stabbed him inst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42900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As the army started to tear down the walls, she asked Joab why.  She gave him Sheba’s head over the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8769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Joab, who had been David’s chief captain ear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5486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5791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Absal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6095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Sh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Name the three men who were killed by Joab, contrary to David’s wishes.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at method did he use in each case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at reason did God give David for the severe famine that had come upon the land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at request was made by the Gibeonites and granted by David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9144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Abner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Absalom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A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1752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He stabbed all th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30481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Because Saul killed Gibeonites who had a covenant with Israel to live in the 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4956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Give the 7 sons of Saul to them to be han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04:37:54Z</dcterms:created>
  <dc:creator>Frank D Vines</dc:creator>
  <dc:description/>
  <dc:language>en-US</dc:language>
  <cp:lastModifiedBy>Frank D Vines</cp:lastModifiedBy>
  <dcterms:modified xsi:type="dcterms:W3CDTF">2008-03-05T18:21:40Z</dcterms:modified>
  <cp:revision>7</cp:revision>
  <dc:subject/>
  <dc:title>Slide 1</dc:title>
</cp:coreProperties>
</file>